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7BC-AC1C-420A-82BC-62DE9993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6BC-D8B1-4A70-AC10-BF270A7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0EB-6FC8-4469-94CF-A58C6E7E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CE9-EB8C-4D08-B50E-9625AEF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5043E-FCEA-4EB1-B3A1-B4727087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05D19-8DF1-4319-A150-9C779DE5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D6B0-3245-4B37-B383-C9BEBC7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362D4-9070-4E5E-8FE1-EBB24B55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A7371-E250-443A-BA4B-A026B2E5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55D97-B87E-4B56-A34E-50EC038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662CB-3828-4D36-BAF7-E931BA8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4B8-E2FF-4B65-8D79-C6CAB2D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77413-EDC0-4858-96F7-53FFA27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0C2E-2553-4CB2-B963-203D465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AD881-DBCB-4439-992B-1598C89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FF4F-BDA2-4794-9B83-83BF088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4BF5-BEF6-4009-B3AD-5E96EC80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E066-CB8E-4ADF-96A8-B96D1EAA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CC70-E56D-489B-8DAD-35DD64A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31FF-15BC-4F3A-81C3-F180C6C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295B-D739-4507-B36B-D26FA33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E1E7-18D0-4CDD-BDDF-A28EF34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378-52D9-45D6-90E9-326FB263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FAE9-C082-493B-9A95-73725D4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5857-D3F0-4F4F-A41B-782A5C2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C26E-BFD4-41A0-9B70-10433CE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0026-8EEE-458F-B0B6-EE742A8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3F21-052B-4026-9A80-57E2535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08DB-5B73-4647-9A78-D2DA1041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1412-50A4-4F02-96A7-A63BDA9D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D422-15CF-4245-B192-435C6A34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09C4-B970-408D-9B0B-BB1ECEF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62E6-19D4-4E0E-B98D-2AA1404B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B11-8196-4E3C-BE5C-952B57E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9FF5-2A43-4339-A4C3-0622AC0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1C09-0F9C-443B-B032-7135D118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678F-C1D3-42DA-966D-FBB8E9B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5C7C-D94C-49E1-A39F-C1810C7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3A14-78A4-4C02-877A-0E97C55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4B70-600F-499C-9DE4-E787AC9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034F-9DD8-4B37-82BD-3C3AE6A9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018A-79A3-4B15-AC86-40DE1BC5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DB19-BADF-4C43-88AF-B1C70748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F71-220E-44CC-92DE-A558702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867-6108-4C83-A53C-3EB00A65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2CA-0E04-4C90-8DA8-DB3DA6C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A7C-0F73-4C3A-84EB-0FA1A7B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7C1-9EBF-4754-8FFD-D7F1EB3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4E8-DBCB-40AC-828A-7EE68B6A519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D06A-73B8-49E2-82DD-7055463D9D6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83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06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9CBB-B077-416D-B009-E570595F481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C00-AB83-4FD7-ABCE-05133755FFE6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-360"/>
            <a:ext cx="878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Основные направления исследований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Психологическое (природа поведенческих стереотип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Социологическое (анкетирование групп респондент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Лингвистическое (коммуникативный контекст, языковые особенности и механизмы кросс-культурной коммуникации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4200" y="499680"/>
            <a:ext cx="871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сс-культурная прагматик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52b86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Сопоставительный анализ принципов, характеризующих коммуникативную деятельность, и соответствующих культурных сценариев.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П.Браун и С.Левинсон « Принцип вежливости»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b86"/>
                </a:solidFill>
                <a:latin typeface="Arial"/>
              </a:rPr>
              <a:t>Debora Tannen “You Just Don’t Understand”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А.Вежбицкая  «Семантические универсалии и описание языков» 2009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Европ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66 г., Берлин, научный симпозиум «Интернациональная и МКК между развитыми и развивающимися странами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70-е гг., преподаватели иностранных языков обращаются к страноведческим аспектам взаимодействия 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89 г., Мюнхенский университет, новая специализация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России и Укра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Инициатором изучения стали преподаватели иностранных языков. Интерес лингвистов к проблемам МК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истические дисциплины, рассматривающие проблемы взаимодействия языка и культуры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-9432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острановедение; 2) этнолингвисти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3) лингвокультурология; 4) социолингвистика; 5) психолингвистика; 6) теория перевода; 7) когнитивная лингвистик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99680" y="76788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Е.М. Верещагин и В.Г. Костомаров «Язык и культура», «Лингвострановедческая теория слова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Одна из важнейших задач преподавания иностранных языков - успешная аккультурац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 и предмет теории МК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Объектом 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теории МКК является процесс естественной коммуникации между представителями различных лингво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едметом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является типы взаимодействия между представителями различных культур и факторы, оказывающие влияние на результат коммуникативного взаимодействия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ория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Междисциплинарная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 научного знания. Взаимодействует с антропологией, культурологией, социологией, лингвистикой, лингводидактико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риентирована на практические потребности, поэтому является </a:t>
            </a: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икладно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ю научного знания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14240" y="21420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единица теории МКК – дискурсивное событие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искурсивное событие – это совокупность коммуникативно значимых речевых и неречевых действий участников общения, направленных на достижение общей коммуникативной цели. Например, дискурсивные события 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«просьба», «приглашение», «приветствие».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4996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онятия теории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1. Культу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2. Коммуник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3. Культурная идент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4. Языковая л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5. Языковая картина ми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6. Коммуникативная компетен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а – это совокупность результатов деятельности человеческого общества во всех сферах его жизн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Фундаментальное понятие гуманитарных наук. Более 500 определени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ная картина мира – совокупность знаний и представлений о ценностях, нормах, нравах, менталитете собственной культуры и культур других народов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678440" cy="27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2b86"/>
                </a:solidFill>
                <a:latin typeface="Arial"/>
              </a:rPr>
              <a:t>Лекция 1. Теория  межкультурной коммуникации в системе гуманитарных на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ция – обмен мыслями, сообщениями, информацией с помощью различного рода вербальных и невербальных сигнал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хема коммуникации Р. Якобсона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нтекст сообщ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адресант --------------------- адреса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д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нципы знаков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ообщения должны интерпретироватьс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ые события и их конкретные участники придают сообщениям уникальный субъективный характер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ое поведение( его невербальный компонент) часто является неосознаваем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428400"/>
            <a:ext cx="82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КОММУНИКАТИВНАЯ СИТУА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ложный комплекс внешних условий общения и внутренних состояний общающихся, представленных в речевом произведении, направляемом адресату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поненты коммуникативной ситуации: адресант, адресат, тема, причина, цель, код, стиль, экспрессия, место, время, среда, н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1680" y="0"/>
            <a:ext cx="8129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хема отношений между коммуникантами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выш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равны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свой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чужо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ниж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5000760" y="2143080"/>
            <a:ext cx="0" cy="83808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5000760" y="3929040"/>
            <a:ext cx="50760" cy="107172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929040" y="3857760"/>
            <a:ext cx="2209680" cy="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НАЯ ИДЕНТ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.И. – принадлежность индивида к какой-л. культуре или культурной группе, формирующая ценностное отношение человека к себе, другим людям, обществу и миру в цело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ультурная идентичность основывается на разделении представителей всех культур на «своих» и «чужих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Я. Л. – совокупность способностей и характеристик человека, обусловливающих создание им речевых произведений (Ю.Н. Караулов, 1989)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В теории МКК языковая личность – это национально-специфический тип коммуниканта, обладающий культурно обусловленной картиной мира и системой ценностей, способный к межкультурной трансформаци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человека мир можно представить в трех форма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164304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еальный мир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бъективная  действительность,  существующая независимо от челове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культурная (понятийная) картина мира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тражение реального мира через призму понятий, сформированных в процессе познания мира человеком на основе как коллективного, так и индивидуального опыта 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языковая картина мира -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тражает  реальность  через  культурную картину мира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 КАРТИНА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85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ЯКМ – часть концептуальной картины мира, совокупность сведений о мире, хранимых и передаваемых от поколения к поколению с помощью языка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Триандис: «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Мудрость межкультурного взаимодействия заключается в том, чтобы не спешить с умозаключениями, когда люди делают, на ваш взгляд, что-то странное. Подыгрывайте им, пока не поймете эту культуру»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ТИВНАЯ КОМПЕТЕН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.К. – владение коммуникативными механизмами, приемами и стратегиями, необходимыми для обеспечения эффективного процесса общения. Помимо знания того, как использовать язык в процессе общения, понятие К.К. предполагает владение социальными и культурными знаниями, умениями и навыками межличностного взаимодействия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.Г. Грушевицкая, В.Д. Попков, А.Л. Садохин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Основы межкультурной коммуникации. – М., 2003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Садохин А.П. Межкультурная коммуникация. – М.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оул М. Кросс-культурные исследования. - М., 199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 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уликова Л.В. Межкультурная коммуникация:</a:t>
            </a:r>
            <a:br>
              <a:rPr sz="2500"/>
            </a:b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еоретические и прикладные аспекты. – Красноярск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Тер-Минасова С.Г. Яз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ы</a:t>
            </a: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 и межкультурная коммуникация. – М., 2000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росс-культурная психология. Исследования и применение /Д.Берри, А.Пуртинга, М.Сигалл. – Харьков, 200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5ff6"/>
                </a:solidFill>
                <a:latin typeface="Arial"/>
              </a:rPr>
              <a:t>ПЛАН ЛЕКЦИИ</a:t>
            </a: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Формирование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бъект и предмет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сновные понятия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28400" y="1530000"/>
            <a:ext cx="8057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(кросскультурная, интеркультурная, транскультурная, контркультурная) – это общение языковых личностей, принадлежащих различным лингвокультурным сообществ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МКК – это общение языковых личностей, принадлежащих разным культур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 – термин, появившийся в гуманитарной науке в последнее десятилетие ушедшего века вслед за ранее укоренившимися в научном и обыденном сознании понятиями «менталитет», «культурный плюрализм», «диалог культур»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28760" y="21384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ин «межкультурная коммуникация» употребляется в трёх значениях, как: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аучное направление в сфере гуманитарных наук, т.е. как поле академических изысканий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университетский предмет (дидактический аспект)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епосредственный процесс общения между представителями разных культур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теории МКК в Амер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46 г. в США создан Институт службы за границей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(Foreign Service Institute)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, который возглавил антрополог Эдвард Хол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4 г. книга Э. Холла и Г. Трэгера «Культура как коммуникация», в ней впервые употреблен термин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9 г. книга Э.Холла «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ilent Language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», в ней обосновывается связь между культурой и коммуникаци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72 Л.Самовар и Р. Портер 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“Communication between Cultures”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– итог формирования научного направл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2840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9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Э. Холл: Главная </a:t>
            </a:r>
            <a:r>
              <a:rPr b="1" lang="ru-RU" sz="2800" spc="-1" strike="noStrike">
                <a:solidFill>
                  <a:srgbClr val="052b86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– изучение практических нужд представителей различных культур для их успешного общения друг с другом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сновными целями </a:t>
            </a:r>
            <a:r>
              <a:rPr b="0" i="1" lang="ru-RU" sz="2800" spc="-1" strike="noStrike">
                <a:solidFill>
                  <a:srgbClr val="052b86"/>
                </a:solidFill>
                <a:latin typeface="Arial"/>
              </a:rPr>
              <a:t>исследовани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в области МКК являются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систематическое изложение основных проблем и тем межкультурной коммуникации, овладение основными понятиями и терминологи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развитие культурной восприимчивости, способности к правильной интерпретации конкретных проявлений коммуникативного поведения в различных культурах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формирование практических навыков и умений в общении с представителями других культур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ва направления обучения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интернациональное (в учебных заведениях, где готовились кадры для р</a:t>
            </a:r>
            <a:r>
              <a:rPr b="0" lang="uk-UA" sz="3200" spc="-1" strike="noStrike">
                <a:solidFill>
                  <a:srgbClr val="052b86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боты за рубежом)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межэтническое (в школах, где обучались дети смешанного этнического состава)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4:50:18Z</dcterms:created>
  <dc:creator>user</dc:creator>
  <dc:description/>
  <cp:keywords/>
  <dc:language>en-US</dc:language>
  <cp:lastModifiedBy>Customer</cp:lastModifiedBy>
  <dcterms:modified xsi:type="dcterms:W3CDTF">2011-09-11T16:47:47Z</dcterms:modified>
  <cp:revision>32</cp:revision>
  <dc:subject/>
  <dc:title>ВВЕДЕНИЕ  В КРОСС-КУЛЬТУРНУЮ ПСИХОЛОГИЮ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