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875-B876-4F2E-8EBF-A35786C7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7B89-635C-4F98-A9A1-A10D856C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472-DB7D-474F-8AA4-2CB6F61A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F4A-E748-40A4-A1E6-51770577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DD727-59DB-488A-AEC8-C889DE56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46E46-5050-4B2D-ACA5-1D7B6AC5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59CDE-BFF4-4621-9883-889B44BD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1FD41-7C61-457A-8557-2C5FFEF4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2B78F-F9BF-4E01-B1C3-463368A0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B2826-BB3B-4BA4-A2F8-9B9A94A0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C990E-82D3-44FC-89F2-D9EAEEB5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E9B-36BA-4697-91E4-B0F7FE49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F0215-CA3F-47A5-A348-15F59EFF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2927B-10FA-4F6F-8A75-4B1F7337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D92EE-A60E-447E-93B5-540C0643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43C39-A769-4144-AD43-9142F12D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DBA9E-537D-4F7E-BFA8-26E1BA5D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FBEB0-571A-464B-9F32-A23EB2D5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D127A-54F3-48E2-9448-3639332D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2D7E8-4326-4762-817F-A4D40878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9D3EB-700A-433C-B22E-84CFB374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B6F43-26DC-4785-B4DB-396002E0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BA74-5DCB-40B4-AB04-F061D2E2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37BDE-2B48-4A9D-A773-DC926A78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7EB21-E41F-4776-A9CD-8F1A7F1F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6BC0B-7624-44CB-B1AA-BDC56176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7CE0B-4802-4D56-9850-2775E994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A3729-A5ED-455C-BBFA-63BE654C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FD57C-D7EA-4650-975A-46DF2738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AF75B-633F-49AF-B7D5-6DEA7228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0CAC8-B4B7-4172-9392-4730CB68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782B2-E6D6-441B-B802-4E2B31A8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EDF0F-448D-47D3-90B1-1858A9B4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D247-8950-4A25-9086-7E5108FC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DD174-561B-4054-95E9-D25376DB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CBB20-B590-4875-A56F-82589D37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59412-5C4A-4815-90F7-E76500D4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EBD9C-D3C0-4237-B878-68FB761D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8DED2-91DB-4499-8E92-3708FB99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C4621-5B40-4E45-9AEC-B1FF5EE0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D5896-4D99-4D2F-B47A-8A6A0DD5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CE1A9-23DC-40CF-A745-A1556442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CF783-8F7F-4C4C-8D46-096A0BE7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EC4-8239-4D15-84FC-89C118A5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A1D6-199D-4CF7-9D27-E3238C06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FF3-BFFA-49C9-82B3-BE8297FB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DE6-6D3B-4E3B-A37D-40837BD5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B493-271F-4A0B-9380-A698FD8E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6BF9-CCF9-4F5D-B223-63022EA23631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0BA8-08A2-49E0-AC74-39F9EEC11A61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83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3339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33399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333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  <p:grpSp>
        <p:nvGrpSpPr>
          <p:cNvPr id="105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106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7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ADBE-A778-4BFA-A4DB-2DF0F0AF392A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B7AE-2D48-4FB4-AF78-6471A89DB821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771640" y="3033720"/>
            <a:ext cx="6229440" cy="18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ы межкультурной коммуник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57120" y="-360"/>
            <a:ext cx="8786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Основные направления исследований</a:t>
            </a:r>
            <a:endParaRPr b="0" lang="en-US" sz="37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825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52b86"/>
                </a:solidFill>
                <a:latin typeface="Arial"/>
              </a:rPr>
              <a:t>Психологическое (природа поведенческих стереотипов)</a:t>
            </a:r>
            <a:endParaRPr b="0" lang="en-US" sz="33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825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52b86"/>
                </a:solidFill>
                <a:latin typeface="Arial"/>
              </a:rPr>
              <a:t>Социологическое (анкетирование групп респондентов)</a:t>
            </a:r>
            <a:endParaRPr b="0" lang="en-US" sz="33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825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52b86"/>
                </a:solidFill>
                <a:latin typeface="Arial"/>
              </a:rPr>
              <a:t>Лингвистическое (коммуникативный контекст, языковые особенности и механизмы кросс-культурной коммуникации)</a:t>
            </a:r>
            <a:endParaRPr b="0" lang="en-US" sz="33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825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14200" y="499680"/>
            <a:ext cx="8715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росс-культурная прагматика</a:t>
            </a: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52b86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52b86"/>
                </a:solidFill>
                <a:latin typeface="Arial"/>
              </a:rPr>
              <a:t>Сопоставительный анализ принципов, характеризующих коммуникативную деятельность, и соответствующих культурных сценариев.</a:t>
            </a:r>
            <a:endParaRPr b="0" lang="en-US" sz="3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52b86"/>
                </a:solidFill>
                <a:latin typeface="Arial"/>
              </a:rPr>
              <a:t>П.Браун и С.Левинсон « Принцип вежливости»</a:t>
            </a:r>
            <a:endParaRPr b="0" lang="en-US" sz="3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52b86"/>
                </a:solidFill>
                <a:latin typeface="Arial"/>
              </a:rPr>
              <a:t>Debora Tannen “You Just Don’t Understand”</a:t>
            </a:r>
            <a:endParaRPr b="0" lang="en-US" sz="3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52b86"/>
                </a:solidFill>
                <a:latin typeface="Arial"/>
              </a:rPr>
              <a:t>А.Вежбицкая  «Семантические универсалии и описание языков» 2009</a:t>
            </a:r>
            <a:endParaRPr b="0" lang="en-US" sz="3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формирования теории МКК в Европ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1966 г., Берлин, научный симпозиум «Интернациональная и МКК между развитыми и развивающимися странами»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1970-е гг., преподаватели иностранных языков обращаются к страноведческим аспектам взаимодействия культур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1989 г., Мюнхенский университет, новая специализация «МКК»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формирования теории МКК в России и Украин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Инициатором изучения стали преподаватели иностранных языков. Интерес лингвистов к проблемам МКК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Лингвистические дисциплины, рассматривающие проблемы взаимодействия языка и культуры: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94320" indent="-94320">
              <a:lnSpc>
                <a:spcPct val="90000"/>
              </a:lnSpc>
              <a:spcBef>
                <a:spcPts val="700"/>
              </a:spcBef>
              <a:buClr>
                <a:srgbClr val="052b8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лингвострановедение; 2) этнолингвистика;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3) лингвокультурология; 4) социолингвистика; 5) психолингвистика; 6) теория перевода; 7) когнитивная лингвистик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99680" y="767880"/>
            <a:ext cx="8286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Е.М. Верещагин и В.Г. Костомаров «Язык и культура», «Лингвострановедческая теория слова»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Одна из важнейших задач преподавания иностранных языков - успешная аккультурация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кт и предмет теории МК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52b86"/>
                </a:solidFill>
                <a:uFillTx/>
                <a:latin typeface="Arial"/>
              </a:rPr>
              <a:t>Объектом 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теории МКК является процесс естественной коммуникации между представителями различных лингвокультур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52b86"/>
                </a:solidFill>
                <a:uFillTx/>
                <a:latin typeface="Arial"/>
              </a:rPr>
              <a:t>Предметом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 теории МКК является типы взаимодействия между представителями различных культур и факторы, оказывающие влияние на результат коммуникативного взаимодействия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ория межкультурной коммуник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52b86"/>
                </a:solidFill>
                <a:uFillTx/>
                <a:latin typeface="Arial"/>
              </a:rPr>
              <a:t>Междисциплинарная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 область научного знания. Взаимодействует с антропологией, культурологией, социологией, лингвистикой, лингводидактикой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Ориентирована на практические потребности, поэтому является </a:t>
            </a:r>
            <a:r>
              <a:rPr b="0" lang="ru-RU" sz="2800" spc="-1" strike="noStrike" u="sng">
                <a:solidFill>
                  <a:srgbClr val="052b86"/>
                </a:solidFill>
                <a:uFillTx/>
                <a:latin typeface="Arial"/>
              </a:rPr>
              <a:t>прикладной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 областью научного знания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714240" y="21420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ая единица теории МКК – дискурсивное событие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Дискурсивное событие – это совокупность коммуникативно значимых речевых и неречевых действий участников общения, направленных на достижение общей коммуникативной цели. Например, дискурсивные события 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«просьба», «приглашение», «приветствие».</a:t>
            </a: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714240" y="49968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понятия теории МКК: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1. Культура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2. Коммуникация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3. Культурная идентичность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4. Языковая личность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5. Языковая картина мира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6. Коммуникативная компетенция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Культура – это совокупность результатов деятельности человеческого общества во всех сферах его жизни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Фундаментальное понятие гуманитарных наук. Более 500 определений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Культурная картина мира – совокупность знаний и представлений о ценностях, нормах, нравах, менталитете собственной культуры и культур других народов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1752480"/>
            <a:ext cx="7678440" cy="277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52b86"/>
                </a:solidFill>
                <a:latin typeface="Arial"/>
              </a:rPr>
              <a:t>Лекция 1. Теория  межкультурной коммуникации в системе гуманитарных нау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ММУНИК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оммуникация – обмен мыслями, сообщениями, информацией с помощью различного рода вербальных и невербальных сигналов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Схема коммуникации Р. Якобсона: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контекст сообщения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адресант --------------------- адресат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код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нципы знаковой коммуник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Сообщения должны интерпретироваться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оммуникативные события и их конкретные участники придают сообщениям уникальный субъективный характер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оммуникативное поведение( его невербальный компонент) часто является неосознаваемым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28760" y="428400"/>
            <a:ext cx="8286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КОММУНИКАТИВНАЯ СИТУАЦИЯ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Сложный комплекс внешних условий общения и внутренних состояний общающихся, представленных в речевом произведении, направляемом адресату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омпоненты коммуникативной ситуации: адресант, адресат, тема, причина, цель, код, стиль, экспрессия, место, время, среда, нация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71680" y="0"/>
            <a:ext cx="8129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Схема отношений между коммуникантами</a:t>
            </a:r>
            <a:endParaRPr b="0" lang="en-US" sz="3700" spc="-1" strike="noStrike">
              <a:solidFill>
                <a:srgbClr val="205ff6"/>
              </a:solidFill>
              <a:latin typeface="Arial"/>
            </a:endParaRPr>
          </a:p>
          <a:p>
            <a:pPr lvl="4" marL="1995480" indent="-2214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вышестоящий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равный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свой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чужой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нижестоящий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3" name="Line 3"/>
          <p:cNvSpPr/>
          <p:nvPr/>
        </p:nvSpPr>
        <p:spPr>
          <a:xfrm>
            <a:off x="5000760" y="2143080"/>
            <a:ext cx="0" cy="838080"/>
          </a:xfrm>
          <a:prstGeom prst="line">
            <a:avLst/>
          </a:prstGeom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5000760" y="3929040"/>
            <a:ext cx="50760" cy="1071720"/>
          </a:xfrm>
          <a:prstGeom prst="line">
            <a:avLst/>
          </a:prstGeom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3929040" y="3857760"/>
            <a:ext cx="2209680" cy="0"/>
          </a:xfrm>
          <a:prstGeom prst="line">
            <a:avLst/>
          </a:prstGeom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УЛЬТУРНАЯ ИДЕНТИЧ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.И. – принадлежность индивида к какой-л. культуре или культурной группе, формирующая ценностное отношение человека к себе, другим людям, обществу и миру в целом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ультурная идентичность основывается на разделении представителей всех культур на «своих» и «чужих»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ЯЗЫКОВА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Ч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Я. Л. – совокупность способностей и характеристик человека, обусловливающих создание им речевых произведений (Ю.Н. Караулов, 1989)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В теории МКК языковая личность – это национально-специфический тип коммуниканта, обладающий культурно обусловленной картиной мира и системой ценностей, способный к межкультурной трансформации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9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ружающий человека мир можно представить в трех формах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1643040"/>
            <a:ext cx="93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реальный мир 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- объективная  действительность,  существующая независимо от человека;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культурная (понятийная) картина мира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- отражение реального мира через призму понятий, сформированных в процессе познания мира человеком на основе как коллективного, так и индивидуального опыта ;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языковая картина мира - 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отражает  реальность  через  культурную картину мира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ЯЗЫКОВАЯ КАРТИНА МИ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2920" y="1285920"/>
            <a:ext cx="85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ЯКМ – часть концептуальной картины мира, совокупность сведений о мире, хранимых и передаваемых от поколения к поколению с помощью языка.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Триандис: «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Мудрость межкультурного взаимодействия заключается в том, чтобы не спешить с умозаключениями, когда люди делают, на ваш взгляд, что-то странное. Подыгрывайте им, пока не поймете эту культуру»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ММУНИКАТИВНАЯ КОМПЕТЕН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К.К. – владение коммуникативными механизмами, приемами и стратегиями, необходимыми для обеспечения эффективного процесса общения. Помимо знания того, как использовать язык в процессе общения, понятие К.К. предполагает владение социальными и культурными знаниями, умениями и навыками межличностного взаимодействия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93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Т.Г. Грушевицкая, В.Д. Попков, А.Л. Садохин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   </a:t>
            </a: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Основы межкультурной коммуникации. – М., 2003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52b86"/>
                </a:solidFill>
                <a:latin typeface="Arial"/>
              </a:rPr>
              <a:t>Садохин А.П. Межкультурная коммуникация. – М., 2004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52b86"/>
                </a:solidFill>
                <a:latin typeface="Arial"/>
              </a:rPr>
              <a:t>Коул М. Кросс-культурные исследования. - М., 1997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 </a:t>
            </a: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Куликова Л.В. Межкультурная коммуникация:</a:t>
            </a:r>
            <a:br>
              <a:rPr sz="2500"/>
            </a:b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теоретические и прикладные аспекты. – Красноярск, 2004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52b86"/>
                </a:solidFill>
                <a:latin typeface="Arial"/>
              </a:rPr>
              <a:t>Тер-Минасова С.Г. Яз</a:t>
            </a: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ы</a:t>
            </a:r>
            <a:r>
              <a:rPr b="0" lang="uk-UA" sz="2500" spc="-1" strike="noStrike">
                <a:solidFill>
                  <a:srgbClr val="052b86"/>
                </a:solidFill>
                <a:latin typeface="Arial"/>
              </a:rPr>
              <a:t>к и межкультурная коммуникация. – М., 2000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Кросс-культурная психология. Исследования и применение /Д.Берри, А.Пуртинга, М.Сигалл. – Харьков, 2007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3160" y="9144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205ff6"/>
                </a:solidFill>
                <a:latin typeface="Arial"/>
              </a:rPr>
              <a:t>ПЛАН ЛЕКЦИИ</a:t>
            </a:r>
            <a:endParaRPr b="0" lang="en-US" sz="3500" spc="-1" strike="noStrike">
              <a:solidFill>
                <a:srgbClr val="205ff6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05ff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205ff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Формирование теории МКК.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205ff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Объект и предмет теории МКК.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205ff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Основные понятия теории МКК.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28400" y="1530000"/>
            <a:ext cx="8057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5ff6"/>
                </a:solidFill>
                <a:latin typeface="Arial"/>
              </a:rPr>
              <a:t>МЕЖКУЛЬТУРНАЯ КОММУНИКАЦИЯ 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(кросскультурная, интеркультурная, транскультурная, контркультурная) – это общение языковых личностей, принадлежащих различным лингвокультурным сообществам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МКК – это общение языковых личностей, принадлежащих разным культурам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85800" y="76788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05ff6"/>
                </a:solidFill>
                <a:latin typeface="Arial"/>
              </a:rPr>
              <a:t>Межкультурная коммуникация – термин, появившийся в гуманитарной науке в последнее десятилетие ушедшего века вслед за ранее укоренившимися в научном и обыденном сознании понятиями «менталитет», «культурный плюрализм», «диалог культур».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28760" y="213840"/>
            <a:ext cx="8572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рмин «межкультурная коммуникация» употребляется в трёх значениях, как: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научное направление в сфере гуманитарных наук, т.е. как поле академических изысканий;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университетский предмет (дидактический аспект);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непосредственный процесс общения между представителями разных культур.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теории МКК в Амери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14200" y="150012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1946 г. в США создан Институт службы за границей</a:t>
            </a: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(Foreign Service Institute)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, который возглавил антрополог Эдвард Холл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1954 г. книга Э. Холла и Г. Трэгера «Культура как коммуникация», в ней впервые употреблен термин «МКК»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1959 г. книга Э.Холла «</a:t>
            </a: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ilent Language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», в ней обосновывается связь между культурой и коммуникацией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1972 Л.Самовар и Р. Портер </a:t>
            </a: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“Communication between Cultures”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 – итог формирования научного направлени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0" y="428400"/>
            <a:ext cx="9072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9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Цели и задачи</a:t>
            </a:r>
            <a:endParaRPr b="0" lang="en-US" sz="39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Э. Холл: Главная </a:t>
            </a:r>
            <a:r>
              <a:rPr b="1" lang="ru-RU" sz="2800" spc="-1" strike="noStrike">
                <a:solidFill>
                  <a:srgbClr val="052b86"/>
                </a:solidFill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 теории МКК – изучение практических нужд представителей различных культур для их успешного общения друг с другом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Основными целями </a:t>
            </a:r>
            <a:r>
              <a:rPr b="0" i="1" lang="ru-RU" sz="2800" spc="-1" strike="noStrike">
                <a:solidFill>
                  <a:srgbClr val="052b86"/>
                </a:solidFill>
                <a:latin typeface="Arial"/>
              </a:rPr>
              <a:t>исследований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 в области МКК являются: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52b86"/>
                </a:solidFill>
                <a:latin typeface="Arial"/>
              </a:rPr>
              <a:t>систематическое изложение основных проблем и тем межкультурной коммуникации, овладение основными понятиями и терминологией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2b86"/>
                </a:solidFill>
                <a:latin typeface="Arial"/>
              </a:rPr>
              <a:t>-развитие культурной восприимчивости, способности к правильной интерпретации конкретных проявлений коммуникативного поведения в различных культурах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2b86"/>
                </a:solidFill>
                <a:latin typeface="Arial"/>
              </a:rPr>
              <a:t>-формирование практических навыков и умений в общении с представителями других культур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800" y="76788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Два направления обучения МКК: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интернациональное (в учебных заведениях, где готовились кадры для р</a:t>
            </a:r>
            <a:r>
              <a:rPr b="0" lang="uk-UA" sz="3200" spc="-1" strike="noStrike">
                <a:solidFill>
                  <a:srgbClr val="052b86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боты за рубежом);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межэтническое (в школах, где обучались дети смешанного этнического состава)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4:50:18Z</dcterms:created>
  <dc:creator>user</dc:creator>
  <dc:description/>
  <cp:keywords/>
  <dc:language>en-US</dc:language>
  <cp:lastModifiedBy>Customer</cp:lastModifiedBy>
  <dcterms:modified xsi:type="dcterms:W3CDTF">2011-09-11T16:47:47Z</dcterms:modified>
  <cp:revision>32</cp:revision>
  <dc:subject/>
  <dc:title>ВВЕДЕНИЕ  В КРОСС-КУЛЬТУРНУЮ ПСИХОЛОГИЮ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