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843-A7DF-4576-91EE-B9CAC0C7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5F6-00F0-4A83-9CF2-2762B5BE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28A-A5E5-4493-8806-6D7C6D03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D3F-3B66-4641-B357-513AE0DE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B8012-7C4F-4406-8514-802D6D9D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E33C0-61F3-43DC-AA04-A05CD9C4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C2EE4-280C-42F8-9410-96D0160A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582FE-8281-4B1E-BA4E-5F36738D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72265-D341-40B8-94F7-3D480C21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F9AC6-CD86-4DE4-9769-B0DF7876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44D42-A23D-4CE0-9C25-883A8546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01A-D1CF-4166-8F16-FBCB1679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E09C9-663C-4369-8D1B-EB4B59AB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46D43-E1A8-4576-9A5F-FE676D6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CB953-3033-48BC-9C6A-1E7A8F51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D7F2F-5932-4174-AA17-4F5EE73A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6BB7D-1AB2-4CD6-B3F0-686CD48D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7494-F93A-493B-A204-4217DF42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77D1-81BA-489D-B551-A781BC4C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D39E-C5B5-4525-B9A9-62F4B2E4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3CE9-BA9B-471D-A70B-3C711184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4044-8CA3-4613-A1BF-A7F3B9ED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476-DF95-4686-92CE-0AF1AFE0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E70C-500D-4FE4-9586-4F48D69B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70FD0-2D0C-482A-A4E5-A86D5074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3172-91D5-46C3-8642-0F54B8B1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800B-B246-4729-8C3D-0AD27EEF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9A117-1A73-4E23-9BAD-16B4A3F7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1B1A-D6C2-4717-AD38-560C1D25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0215-C63D-4097-829A-B3C4641E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DAC9E-C0A2-440D-9172-36BF51E7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C2BE8-53A9-4EE0-8DBD-BF47CAC9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CB1F-B77D-4CF5-B726-6C402B1C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A7F-67F3-491F-9231-FF714F67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EA7DF-1814-4DB1-85E4-07D78D1F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80E07-D6BD-4B9E-AC6F-B4B63831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C697-A29D-4147-AAC3-06A15251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11CE-2221-4717-9215-0417574F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166AF-0A83-45E1-A05D-7B544DC2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C242-6085-4E2B-8CBC-54441FCD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5A41F-DA5E-4438-9399-ED3C4F40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0A04-BB4A-4B02-A371-C4F017AF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C7B7-E641-4E86-BADA-F87984C3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61E-8522-42BF-B540-99E0CBA8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A52-F3F0-42EB-8559-713B513D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6F8-B093-43FA-AE0C-E2FB315B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138-FF78-4102-8DCB-4A7E9F62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4A8-7471-4E0F-85E0-74C852B5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AAF6-4756-4362-AF4E-255C45014B6A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0575-88B8-4FD9-B1F3-BD29A88223E0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83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333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05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06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2782-B244-425C-AC77-37D7EFA7BA5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5A91-31DE-43EF-BBB9-419D88788D63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межкультурн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57120" y="-360"/>
            <a:ext cx="8786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Основные направления исследований</a:t>
            </a:r>
            <a:endParaRPr b="0" lang="en-US" sz="37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Психологическое (природа поведенческих стереотипов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Социологическое (анкетирование групп респондентов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52b86"/>
                </a:solidFill>
                <a:latin typeface="Arial"/>
              </a:rPr>
              <a:t>Лингвистическое (коммуникативный контекст, языковые особенности и механизмы кросс-культурной коммуникации)</a:t>
            </a: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825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14200" y="499680"/>
            <a:ext cx="8715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росс-культурная прагматика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52b86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Сопоставительный анализ принципов, характеризующих коммуникативную деятельность, и соответствующих культурных сценариев.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П.Браун и С.Левинсон « Принцип вежливости»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2b86"/>
                </a:solidFill>
                <a:latin typeface="Arial"/>
              </a:rPr>
              <a:t>Debora Tannen “You Just Don’t Understand”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52b86"/>
                </a:solidFill>
                <a:latin typeface="Arial"/>
              </a:rPr>
              <a:t>А.Вежбицкая  «Семантические универсалии и описание языков» 2009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формирования теории МКК в Европ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66 г., Берлин, научный симпозиум «Интернациональная и МКК между развитыми и развивающимися странами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70-е гг., преподаватели иностранных языков обращаются к страноведческим аспектам взаимодействия культур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1989 г., Мюнхенский университет, новая специализация «МКК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формирования теории МКК в России и Украи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Инициатором изучения стали преподаватели иностранных языков. Интерес лингвистов к проблемам МКК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Лингвистические дисциплины, рассматривающие проблемы взаимодействия языка и культуры: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-9432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лингвострановедение; 2) этнолингвистика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3) лингвокультурология; 4) социолингвистика; 5) психолингвистика; 6) теория перевода; 7) когнитивная лингвистик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99680" y="767880"/>
            <a:ext cx="8286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Е.М. Верещагин и В.Г. Костомаров «Язык и культура», «Лингвострановедческая теория слова»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Одна из важнейших задач преподавания иностранных языков - успешная аккультураци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кт и предмет теории МК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Объектом 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теории МКК является процесс естественной коммуникации между представителями различных лингвокультур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Предметом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теории МКК является типы взаимодействия между представителями различных культур и факторы, оказывающие влияние на результат коммуникативного взаимодействия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ория межкультурн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Междисциплинарная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область научного знания. Взаимодействует с антропологией, культурологией, социологией, лингвистикой, лингводидактико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Ориентирована на практические потребности, поэтому является </a:t>
            </a:r>
            <a:r>
              <a:rPr b="0" lang="ru-RU" sz="2800" spc="-1" strike="noStrike" u="sng">
                <a:solidFill>
                  <a:srgbClr val="052b86"/>
                </a:solidFill>
                <a:uFillTx/>
                <a:latin typeface="Arial"/>
              </a:rPr>
              <a:t>прикладной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областью научного знания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14240" y="21420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ая единица теории МКК – дискурсивное событие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Дискурсивное событие – это совокупность коммуникативно значимых речевых и неречевых действий участников общения, направленных на достижение общей коммуникативной цели. Например, дискурсивные события 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«просьба», «приглашение», «приветствие».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14240" y="4996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онятия теории МКК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1. Культур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2. Коммуникация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3. Культурная идентичность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4. Языковая личность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5. Языковая картина мир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6. Коммуникативная компетенция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ультура – это совокупность результатов деятельности человеческого общества во всех сферах его жизни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Фундаментальное понятие гуманитарных наук. Более 500 определений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ультурная картина мира – совокупность знаний и представлений о ценностях, нормах, нравах, менталитете собственной культуры и культур других народов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1752480"/>
            <a:ext cx="7678440" cy="27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2b86"/>
                </a:solidFill>
                <a:latin typeface="Arial"/>
              </a:rPr>
              <a:t>Лекция 1. Теория  межкультурной коммуникации в системе гуманитарных нау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МУНИК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ция – обмен мыслями, сообщениями, информацией с помощью различного рода вербальных и невербальных сигнал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хема коммуникации Р. Якобсона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контекст сообщени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адресант --------------------- адресат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код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нципы знаковой коммуник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ообщения должны интерпретироватьс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тивные события и их конкретные участники придают сообщениям уникальный субъективный характер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муникативное поведение( его невербальный компонент) часто является неосознаваемым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760" y="428400"/>
            <a:ext cx="8286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КОММУНИКАТИВНАЯ СИТУАЦИЯ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Сложный комплекс внешних условий общения и внутренних состояний общающихся, представленных в речевом произведении, направляемом адресату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омпоненты коммуникативной ситуации: адресант, адресат, тема, причина, цель, код, стиль, экспрессия, место, время, среда, нация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1680" y="0"/>
            <a:ext cx="8129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Схема отношений между коммуникантами</a:t>
            </a:r>
            <a:endParaRPr b="0" lang="en-US" sz="3700" spc="-1" strike="noStrike">
              <a:solidFill>
                <a:srgbClr val="205ff6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вышестоящи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равны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свой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чужо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нижестоящий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5000760" y="2143080"/>
            <a:ext cx="0" cy="83808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5000760" y="3929040"/>
            <a:ext cx="50760" cy="107172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3929040" y="3857760"/>
            <a:ext cx="2209680" cy="0"/>
          </a:xfrm>
          <a:prstGeom prst="line">
            <a:avLst/>
          </a:prstGeom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НАЯ ИДЕНТИЧ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.И. – принадлежность индивида к какой-л. культуре или культурной группе, формирующая ценностное отношение человека к себе, другим людям, обществу и миру в цело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Культурная идентичность основывается на разделении представителей всех культур на «своих» и «чужих»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ОВА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Ч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Я. Л. – совокупность способностей и характеристик человека, обусловливающих создание им речевых произведений (Ю.Н. Караулов, 1989)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В теории МКК языковая личность – это национально-специфический тип коммуниканта, обладающий культурно обусловленной картиной мира и системой ценностей, способный к межкультурной трансформаци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9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ий человека мир можно представить в трех формах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1643040"/>
            <a:ext cx="93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реальный мир 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- объективная  действительность,  существующая независимо от человека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культурная (понятийная) картина мира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- отражение реального мира через призму понятий, сформированных в процессе познания мира человеком на основе как коллективного, так и индивидуального опыта ;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языковая картина мира - 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тражает  реальность  через  культурную картину мира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ОВАЯ КАРТИНА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2920" y="1285920"/>
            <a:ext cx="85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ЯКМ – часть концептуальной картины мира, совокупность сведений о мире, хранимых и передаваемых от поколения к поколению с помощью языка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Триандис: «</a:t>
            </a:r>
            <a:r>
              <a:rPr b="0" i="1" lang="ru-RU" sz="3200" spc="-1" strike="noStrike">
                <a:solidFill>
                  <a:srgbClr val="052b86"/>
                </a:solidFill>
                <a:latin typeface="Arial"/>
              </a:rPr>
              <a:t>Мудрость межкультурного взаимодействия заключается в том, чтобы не спешить с умозаключениями, когда люди делают, на ваш взгляд, что-то странное. Подыгрывайте им, пока не поймете эту культуру»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МУНИКАТИВНАЯ КОМПЕТЕН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К.К. – владение коммуникативными механизмами, приемами и стратегиями, необходимыми для обеспечения эффективного процесса общения. Помимо знания того, как использовать язык в процессе общения, понятие К.К. предполагает владение социальными и культурными знаниями, умениями и навыками межличностного взаимодействия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93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Т.Г. Грушевицкая, В.Д. Попков, А.Л. Садохин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   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Основы межкультурной коммуникации. – М., 2003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Садохин А.П. Межкультурная коммуникация. – М., 2004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Коул М. Кросс-культурные исследования. - М., 1997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 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Куликова Л.В. Межкультурная коммуникация:</a:t>
            </a:r>
            <a:br>
              <a:rPr sz="2500"/>
            </a:b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теоретические и прикладные аспекты. – Красноярск, 2004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Тер-Минасова С.Г. Яз</a:t>
            </a: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ы</a:t>
            </a:r>
            <a:r>
              <a:rPr b="0" lang="uk-UA" sz="2500" spc="-1" strike="noStrike">
                <a:solidFill>
                  <a:srgbClr val="052b86"/>
                </a:solidFill>
                <a:latin typeface="Arial"/>
              </a:rPr>
              <a:t>к и межкультурная коммуникация. – М., 2000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-315360">
              <a:spcBef>
                <a:spcPts val="624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52b86"/>
                </a:solidFill>
                <a:latin typeface="Arial"/>
              </a:rPr>
              <a:t>Кросс-культурная психология. Исследования и применение /Д.Берри, А.Пуртинга, М.Сигалл. – Харьков, 2007</a:t>
            </a: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205ff6"/>
                </a:solidFill>
                <a:latin typeface="Arial"/>
              </a:rPr>
              <a:t>ПЛАН ЛЕКЦИИ</a:t>
            </a:r>
            <a:endParaRPr b="0" lang="en-US" sz="35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Формирование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Объект и предмет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205ff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5ff6"/>
                </a:solidFill>
                <a:latin typeface="Arial"/>
              </a:rPr>
              <a:t>Основные понятия теории МКК.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28400" y="1530000"/>
            <a:ext cx="8057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5ff6"/>
                </a:solidFill>
                <a:latin typeface="Arial"/>
              </a:rPr>
              <a:t>МЕЖКУЛЬТУРНАЯ КОММУНИКАЦИЯ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(кросскультурная, интеркультурная, транскультурная, контркультурная) – это общение языковых личностей, принадлежащих различным лингвокультурным сообщества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МКК – это общение языковых личностей, принадлежащих разным культурам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5800" y="7678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5ff6"/>
                </a:solidFill>
                <a:latin typeface="Arial"/>
              </a:rPr>
              <a:t>Межкультурная коммуникация – термин, появившийся в гуманитарной науке в последнее десятилетие ушедшего века вслед за ранее укоренившимися в научном и обыденном сознании понятиями «менталитет», «культурный плюрализм», «диалог культур»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28760" y="213840"/>
            <a:ext cx="8572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мин «межкультурная коммуникация» употребляется в трёх значениях, как: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научное направление в сфере гуманитарных наук, т.е. как поле академических изысканий;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университетский предмет (дидактический аспект);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непосредственный процесс общения между представителями разных культур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теории МКК в Амер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46 г. в США создан Институт службы за границей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(Foreign Service Institute)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, который возглавил антрополог Эдвард Хол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54 г. книга Э. Холла и Г. Трэгера «Культура как коммуникация», в ней впервые употреблен термин «МКК»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59 г. книга Э.Холла «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ilent Language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», в ней обосновывается связь между культурой и коммуникацией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972 Л.Самовар и Р. Портер </a:t>
            </a: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“Communication between Cultures”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– итог формирования научного направл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42840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9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Цели и задачи</a:t>
            </a:r>
            <a:endParaRPr b="0" lang="en-US" sz="39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Э. Холл: Главная </a:t>
            </a:r>
            <a:r>
              <a:rPr b="1" lang="ru-RU" sz="2800" spc="-1" strike="noStrike">
                <a:solidFill>
                  <a:srgbClr val="052b86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теории МКК – изучение практических нужд представителей различных культур для их успешного общения друг с другом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Основными целями </a:t>
            </a:r>
            <a:r>
              <a:rPr b="0" i="1" lang="ru-RU" sz="2800" spc="-1" strike="noStrike">
                <a:solidFill>
                  <a:srgbClr val="052b86"/>
                </a:solidFill>
                <a:latin typeface="Arial"/>
              </a:rPr>
              <a:t>исследований</a:t>
            </a: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 в области МКК являются: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b8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систематическое изложение основных проблем и тем межкультурной коммуникации, овладение основными понятиями и терминологи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-развитие культурной восприимчивости, способности к правильной интерпретации конкретных проявлений коммуникативного поведения в различных культурах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b86"/>
                </a:solidFill>
                <a:latin typeface="Arial"/>
              </a:rPr>
              <a:t>-формирование практических навыков и умений в общении с представителями других культур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7678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Два направления обучения МКК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интернациональное (в учебных заведениях, где готовились кадры для р</a:t>
            </a:r>
            <a:r>
              <a:rPr b="0" lang="uk-UA" sz="3200" spc="-1" strike="noStrike">
                <a:solidFill>
                  <a:srgbClr val="052b86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боты за рубежом);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b86"/>
                </a:solidFill>
                <a:latin typeface="Arial"/>
              </a:rPr>
              <a:t>межэтническое (в школах, где обучались дети смешанного этнического состава)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4:50:18Z</dcterms:created>
  <dc:creator>user</dc:creator>
  <dc:description/>
  <cp:keywords/>
  <dc:language>en-US</dc:language>
  <cp:lastModifiedBy>Customer</cp:lastModifiedBy>
  <dcterms:modified xsi:type="dcterms:W3CDTF">2011-09-11T16:47:47Z</dcterms:modified>
  <cp:revision>32</cp:revision>
  <dc:subject/>
  <dc:title>ВВЕДЕНИЕ  В КРОСС-КУЛЬТУРНУЮ ПСИХОЛОГИЮ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