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3D3-C638-4696-B698-8C47088A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48E-BFC2-4997-96A3-DCF48FD6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2EE-0E54-464E-9311-7577B621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F34-FD00-4FCD-A36C-063B3C4F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3E31D-5B2C-437D-92AD-393BE382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B9AAA-5E94-4B57-A534-84C64D3D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87C0D-E38A-42D6-A9AB-4C388BB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633A5-FBA2-4DBF-B242-8136BFA9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82783-A4B2-44A1-A51D-E1A415D7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256BD-BBA9-4D9D-9053-264B27DC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72DA6-0EA9-4019-A805-191CF084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D61-F345-4507-B4EB-E34318D6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D6A72-9E25-4BAF-B090-B002B5FE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259CC-2372-4A67-AF78-D35CC8C3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6F79F-2440-4C19-8BA4-B582DE52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DF5DC-EDF2-42EC-92D4-08121057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5E6D3-C608-4303-907E-166575CC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C22E-447B-45DE-A95D-FDB498D5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50C7-DEF1-48A7-80AF-FEFF743C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9616-DDFF-48B0-922F-F3945FC1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0EDF-D606-492C-8A8C-CAE6196F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922D-5222-41AB-8B31-8C2F7D5C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507-31E8-404D-BDBA-4805E04E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338C-287E-4CE3-8FA1-39EB268A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91B1-104B-4642-9BC7-8B4E9895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D06E-B7A3-4FD2-9457-9561F904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59EA-27E6-43B2-912A-DFFA9E47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BB40-8C7A-4CEB-B06B-0FDC923B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E8A6-A0F6-4886-B7A8-7996EC56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3E72-ED1D-4363-A47F-FD78D171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DBD6-1913-4E8B-8E0D-7D8B2637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61C9-6050-4633-BB28-1875A5E3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C6C0-F725-4802-8E23-36CCB751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43A-147B-4428-9CA7-4DE442A4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21C2-C48C-4607-A42A-6F4DAF5D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109A-FA18-44EE-A509-B19CD4F2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F4EE-7F8C-493A-B00E-0BEFD5A5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3019-3508-4E83-8019-3229AE7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D127-D382-4488-90CA-2B6BA7EA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A370-C7DF-40FC-A0C6-265066C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3933-C365-43CE-A185-112F4BA8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C110-EE72-4F97-AD12-FFC1E9A6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6BF4-3CF0-4CD0-B3D7-872D479C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FDC-F3DE-4276-A193-856698B1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8AE-52C6-4425-8558-1E2F9B29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655-2C21-42FE-B322-9DF24884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326-F781-4189-9440-4C22383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587-FA3F-4B6B-B3E3-2F26943D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916-AE5F-4E01-83ED-9305DDED2E3F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11CF-3F9A-49ED-8AA4-258229109C12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83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06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5660-2698-4DE0-BDF1-5F903049D647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CF65-1EAC-46A1-8686-8C91ED498294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межкультурн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57120" y="-360"/>
            <a:ext cx="8786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Основные направления исследований</a:t>
            </a:r>
            <a:endParaRPr b="0" lang="en-US" sz="37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Психологическое (природа поведенческих стереотипов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Социологическое (анкетирование групп респондентов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Лингвистическое (коммуникативный контекст, языковые особенности и механизмы кросс-культурной коммуникации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14200" y="499680"/>
            <a:ext cx="8715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осс-культурная прагматика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52b86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Сопоставительный анализ принципов, характеризующих коммуникативную деятельность, и соответствующих культурных сценариев.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П.Браун и С.Левинсон « Принцип вежливости»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2b86"/>
                </a:solidFill>
                <a:latin typeface="Arial"/>
              </a:rPr>
              <a:t>Debora Tannen “You Just Don’t Understand”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А.Вежбицкая  «Семантические универсалии и описание языков» 2009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формирования теории МКК в Европ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66 г., Берлин, научный симпозиум «Интернациональная и МКК между развитыми и развивающимися странами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70-е гг., преподаватели иностранных языков обращаются к страноведческим аспектам взаимодействия культур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89 г., Мюнхенский университет, новая специализация «МКК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формирования теории МКК в России и Украи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Инициатором изучения стали преподаватели иностранных языков. Интерес лингвистов к проблемам МКК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Лингвистические дисциплины, рассматривающие проблемы взаимодействия языка и культуры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-9432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лингвострановедение; 2) этнолингвистика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3) лингвокультурология; 4) социолингвистика; 5) психолингвистика; 6) теория перевода; 7) когнитивная лингвистик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99680" y="767880"/>
            <a:ext cx="8286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Е.М. Верещагин и В.Г. Костомаров «Язык и культура», «Лингвострановедческая теория слова»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Одна из важнейших задач преподавания иностранных языков - успешная аккультурац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кт и предмет теории МК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Объектом 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теории МКК является процесс естественной коммуникации между представителями различных лингвокультур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Предметом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теории МКК является типы взаимодействия между представителями различных культур и факторы, оказывающие влияние на результат коммуникативного взаимодействия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ория межкультурн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Междисциплинарная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область научного знания. Взаимодействует с антропологией, культурологией, социологией, лингвистикой, лингводидактико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Ориентирована на практические потребности, поэтому является </a:t>
            </a: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прикладной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областью научного знания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14240" y="21420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ая единица теории МКК – дискурсивное событие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Дискурсивное событие – это совокупность коммуникативно значимых речевых и неречевых действий участников общения, направленных на достижение общей коммуникативной цели. Например, дискурсивные события 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«просьба», «приглашение», «приветствие».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14240" y="4996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онятия теории МКК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1. Культур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2. Коммуникация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3. Культурная идентичность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4. Языковая личность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5. Языковая картина мир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6. Коммуникативная компетенция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ультура – это совокупность результатов деятельности человеческого общества во всех сферах его жизни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Фундаментальное понятие гуманитарных наук. Более 500 определени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ультурная картина мира – совокупность знаний и представлений о ценностях, нормах, нравах, менталитете собственной культуры и культур других народов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1752480"/>
            <a:ext cx="7678440" cy="27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2b86"/>
                </a:solidFill>
                <a:latin typeface="Arial"/>
              </a:rPr>
              <a:t>Лекция 1. Теория  межкультурной коммуникации в системе гуманитарных нау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МУНИК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ция – обмен мыслями, сообщениями, информацией с помощью различного рода вербальных и невербальных сигнал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хема коммуникации Р. Якобсона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контекст сообщен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адресант --------------------- адреса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код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нципы знаков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ообщения должны интерпретироватьс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тивные события и их конкретные участники придают сообщениям уникальный субъективный характер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тивное поведение( его невербальный компонент) часто является неосознаваемым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760" y="428400"/>
            <a:ext cx="8286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КОММУНИКАТИВНАЯ СИТУАЦИЯ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ложный комплекс внешних условий общения и внутренних состояний общающихся, представленных в речевом произведении, направляемом адресату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поненты коммуникативной ситуации: адресант, адресат, тема, причина, цель, код, стиль, экспрессия, место, время, среда, нация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1680" y="0"/>
            <a:ext cx="8129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Схема отношений между коммуникантами</a:t>
            </a:r>
            <a:endParaRPr b="0" lang="en-US" sz="3700" spc="-1" strike="noStrike">
              <a:solidFill>
                <a:srgbClr val="205ff6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вышестоящи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равны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свой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чужо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нижестоящи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5000760" y="2143080"/>
            <a:ext cx="0" cy="83808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5000760" y="3929040"/>
            <a:ext cx="50760" cy="107172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3929040" y="3857760"/>
            <a:ext cx="2209680" cy="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НАЯ ИДЕНТИЧ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.И. – принадлежность индивида к какой-л. культуре или культурной группе, формирующая ценностное отношение человека к себе, другим людям, обществу и миру в цело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ультурная идентичность основывается на разделении представителей всех культур на «своих» и «чужих»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А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Я. Л. – совокупность способностей и характеристик человека, обусловливающих создание им речевых произведений (Ю.Н. Караулов, 1989)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В теории МКК языковая личность – это национально-специфический тип коммуниканта, обладающий культурно обусловленной картиной мира и системой ценностей, способный к межкультурной трансформаци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9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 человека мир можно представить в трех форма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1643040"/>
            <a:ext cx="93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реальный мир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- объективная  действительность,  существующая независимо от человека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культурная (понятийная) картина мира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- отражение реального мира через призму понятий, сформированных в процессе познания мира человеком на основе как коллективного, так и индивидуального опыта 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языковая картина мира -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тражает  реальность  через  культурную картину мира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АЯ КАРТИНА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2920" y="1285920"/>
            <a:ext cx="85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ЯКМ – часть концептуальной картины мира, совокупность сведений о мире, хранимых и передаваемых от поколения к поколению с помощью языка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Триандис: «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Мудрость межкультурного взаимодействия заключается в том, чтобы не спешить с умозаключениями, когда люди делают, на ваш взгляд, что-то странное. Подыгрывайте им, пока не поймете эту культуру»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МУНИКАТИВНАЯ КОМПЕТЕН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.К. – владение коммуникативными механизмами, приемами и стратегиями, необходимыми для обеспечения эффективного процесса общения. Помимо знания того, как использовать язык в процессе общения, понятие К.К. предполагает владение социальными и культурными знаниями, умениями и навыками межличностного взаимодействия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93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Т.Г. Грушевицкая, В.Д. Попков, А.Л. Садохин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   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Основы межкультурной коммуникации. – М., 2003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Садохин А.П. Межкультурная коммуникация. – М., 2004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Коул М. Кросс-культурные исследования. - М., 1997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 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Куликова Л.В. Межкультурная коммуникация:</a:t>
            </a:r>
            <a:br>
              <a:rPr sz="2500"/>
            </a:b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теоретические и прикладные аспекты. – Красноярск, 2004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Тер-Минасова С.Г. Яз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ы</a:t>
            </a: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к и межкультурная коммуникация. – М., 2000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Кросс-культурная психология. Исследования и применение /Д.Берри, А.Пуртинга, М.Сигалл. – Харьков, 2007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205ff6"/>
                </a:solidFill>
                <a:latin typeface="Arial"/>
              </a:rPr>
              <a:t>ПЛАН ЛЕКЦИИ</a:t>
            </a:r>
            <a:endParaRPr b="0" lang="en-US" sz="35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Формирование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Объект и предмет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Основные понятия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28400" y="1530000"/>
            <a:ext cx="8057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5ff6"/>
                </a:solidFill>
                <a:latin typeface="Arial"/>
              </a:rPr>
              <a:t>МЕЖКУЛЬТУРНАЯ КОММУНИКАЦИЯ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(кросскультурная, интеркультурная, транскультурная, контркультурная) – это общение языковых личностей, принадлежащих различным лингвокультурным сообщества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МКК – это общение языковых личностей, принадлежащих разным культура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7678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5ff6"/>
                </a:solidFill>
                <a:latin typeface="Arial"/>
              </a:rPr>
              <a:t>Межкультурная коммуникация – термин, появившийся в гуманитарной науке в последнее десятилетие ушедшего века вслед за ранее укоренившимися в научном и обыденном сознании понятиями «менталитет», «культурный плюрализм», «диалог культур»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28760" y="213840"/>
            <a:ext cx="8572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мин «межкультурная коммуникация» употребляется в трёх значениях, как: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научное направление в сфере гуманитарных наук, т.е. как поле академических изысканий;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университетский предмет (дидактический аспект);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непосредственный процесс общения между представителями разных культур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теории МКК в Амер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46 г. в США создан Институт службы за границей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(Foreign Service Institute)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, который возглавил антрополог Эдвард Хол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54 г. книга Э. Холла и Г. Трэгера «Культура как коммуникация», в ней впервые употреблен термин «МКК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59 г. книга Э.Холла «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ilent Language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», в ней обосновывается связь между культурой и коммуникацие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72 Л.Самовар и Р. Портер 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“Communication between Cultures”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– итог формирования научного направл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42840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9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39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Э. Холл: Главная </a:t>
            </a:r>
            <a:r>
              <a:rPr b="1" lang="ru-RU" sz="2800" spc="-1" strike="noStrike">
                <a:solidFill>
                  <a:srgbClr val="052b86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теории МКК – изучение практических нужд представителей различных культур для их успешного общения друг с другом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Основными целями </a:t>
            </a:r>
            <a:r>
              <a:rPr b="0" i="1" lang="ru-RU" sz="2800" spc="-1" strike="noStrike">
                <a:solidFill>
                  <a:srgbClr val="052b86"/>
                </a:solidFill>
                <a:latin typeface="Arial"/>
              </a:rPr>
              <a:t>исследований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в области МКК являются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систематическое изложение основных проблем и тем межкультурной коммуникации, овладение основными понятиями и терминологи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-развитие культурной восприимчивости, способности к правильной интерпретации конкретных проявлений коммуникативного поведения в различных культурах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-формирование практических навыков и умений в общении с представителями других культур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7678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Два направления обучения МКК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интернациональное (в учебных заведениях, где готовились кадры для р</a:t>
            </a:r>
            <a:r>
              <a:rPr b="0" lang="uk-UA" sz="3200" spc="-1" strike="noStrike">
                <a:solidFill>
                  <a:srgbClr val="052b86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боты за рубежом)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межэтническое (в школах, где обучались дети смешанного этнического состава)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4:50:18Z</dcterms:created>
  <dc:creator>user</dc:creator>
  <dc:description/>
  <cp:keywords/>
  <dc:language>en-US</dc:language>
  <cp:lastModifiedBy>Customer</cp:lastModifiedBy>
  <dcterms:modified xsi:type="dcterms:W3CDTF">2011-09-11T16:47:47Z</dcterms:modified>
  <cp:revision>32</cp:revision>
  <dc:subject/>
  <dc:title>ВВЕДЕНИЕ  В КРОСС-КУЛЬТУРНУЮ ПСИХОЛОГИЮ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